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6F6D-B7BF-45C1-BD62-400D62FF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DADA-B852-41FE-928C-A406DA6C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70D1-4A3C-46EF-AABC-25FF7CAC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28BF-3C64-452F-AE58-2CDCE812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DC60-38E7-4F2C-B59C-4165DAB9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E163-54F8-427A-8A25-F456A9C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6F75-520B-41AB-A9C0-4F97150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2083-8072-4A9F-BA43-B758875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D4E-B14C-42F8-9E9A-DF9C4CD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F844-8DBD-488B-A6B4-E4F8557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3614-F82F-4249-A746-459903B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1A04-220A-497A-B383-75977A4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5AE-57F5-4B0D-91BC-2324E95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6BF-41B1-45C5-AD9E-DE44693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14FE-C40C-462E-83D2-2E47A6E2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05BB-9E13-4B54-B7BD-C90BB710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898-1DEE-4B8D-B318-A1C6EEBB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49DE-3474-4362-B363-8A33DFC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77B0-94D0-4C03-A096-9282DB5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0813-059A-45AB-B25A-18BEC98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0E66-30B4-4B32-8FDC-AB7F399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218F-0830-42B2-969F-2677174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7E52-B278-4096-8B8A-9FB41C7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0045-6EB0-4D0D-AA16-A6D9965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C62B-AC23-4B75-9C9E-228E09942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B7E-DAC3-45DC-9F70-93B772315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: Jack Camp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cina. Es bonita y moder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6390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ome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grande y lujo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8:52:13Z</dcterms:created>
  <dc:creator>campionjoh</dc:creator>
  <dc:description/>
  <dc:language>en-US</dc:language>
  <cp:lastModifiedBy>campionjoh</cp:lastModifiedBy>
  <dcterms:modified xsi:type="dcterms:W3CDTF">2011-04-25T16:43:57Z</dcterms:modified>
  <cp:revision>2</cp:revision>
  <dc:subject/>
  <dc:title>La Casa</dc:title>
</cp:coreProperties>
</file>